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B389E-686C-49CC-AEA7-B909517E7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278B6-8D73-4EC3-B412-D3D6DCBD4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477C2-F3F1-44D5-842E-B2C2F4B2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FF2BD-74D2-4F20-B73E-94A043730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67968-482E-470F-89CC-43B014B4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56627-1A0D-4F15-BD03-3479AE40E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FB4F9-2DC5-42BC-AE7C-506CBAAED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129E-9A1F-4ECE-B021-6AEABD35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F2A4-DA7B-4AA5-A380-3442D816B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C7CEE-2408-4E88-AF75-434A32FD6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6821-D381-4D4F-B58D-993B9E174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29578-048A-4A7F-AF6C-6B89BB533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00ffff"/>
            </a:gs>
            <a:gs pos="100000">
              <a:srgbClr val="66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4502-BD98-493E-8BB1-A6E7FB41F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ter Quali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Beth Dowdy</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0" y="0"/>
            <a:ext cx="9144000" cy="250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s and Chang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a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lways searched for a new way to purify water even if it wor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water makes you si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water makes water clean.</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new ways to purify w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hemicals to purify water have been dis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about and gotten rid of para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of Changes and Predictions for the Fu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s of Chang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learning new ways to purify water other than boiling it has been less expensiv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new chemicals has made the water EXTRA clea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etting rid of parasites in the United States, we have reduced the amount of people getting sick by them.</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Predictions for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predict we will continue to search and find new ways to purify water and find the water quality because naturally humans are creative in some way and are very cu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on Rouge’s Water Report</a:t>
            </a:r>
            <a:br>
              <a:rPr sz="4400"/>
            </a:br>
            <a:r>
              <a:rPr b="0" lang="en-US" sz="2400" spc="-1" strike="noStrike">
                <a:solidFill>
                  <a:srgbClr val="000000"/>
                </a:solidFill>
                <a:latin typeface="Times New Roman"/>
              </a:rPr>
              <a:t>This is how citizens find out the water quality in the city.</a:t>
            </a:r>
            <a:endParaRPr b="0" lang="en-US" sz="2400" spc="-1" strike="noStrike">
              <a:solidFill>
                <a:srgbClr val="000000"/>
              </a:solidFill>
              <a:latin typeface="Times New Roman"/>
            </a:endParaRPr>
          </a:p>
        </p:txBody>
      </p:sp>
      <p:sp>
        <p:nvSpPr>
          <p:cNvPr id="71" name="PlaceHolder 2"/>
          <p:cNvSpPr>
            <a:spLocks noGrp="1"/>
          </p:cNvSpPr>
          <p:nvPr>
            <p:ph/>
          </p:nvPr>
        </p:nvSpPr>
        <p:spPr>
          <a:xfrm>
            <a:off x="228240" y="1828440"/>
            <a:ext cx="3809880" cy="2971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ead</a:t>
            </a:r>
            <a:r>
              <a:rPr b="0" lang="en-US" sz="2400" spc="-1" strike="noStrike">
                <a:solidFill>
                  <a:srgbClr val="000000"/>
                </a:solidFill>
                <a:latin typeface="Times New Roman"/>
              </a:rPr>
              <a:t> </a:t>
            </a:r>
            <a:r>
              <a:rPr b="0" lang="en-US" sz="2400" spc="-1" strike="noStrike" u="sng">
                <a:solidFill>
                  <a:srgbClr val="000000"/>
                </a:solidFill>
                <a:uFillTx/>
                <a:latin typeface="Times New Roman"/>
              </a:rPr>
              <a:t>Fluorid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ppe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E.Coli</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ate  Date       Date     Dat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startAt="200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09   2007  6/23/09</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iolation:  V:    V:     V:</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o   No     No</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5"/>
          <p:cNvGraphicFramePr/>
          <p:nvPr/>
        </p:nvGraphicFramePr>
        <p:xfrm>
          <a:off x="4648320" y="1523880"/>
          <a:ext cx="3809880" cy="4108680"/>
        </p:xfrm>
        <a:graphic>
          <a:graphicData uri="http://schemas.openxmlformats.org/presentationml/2006/ole">
            <p:oleObj r:id="rId1" spid="">
              <p:embed/>
              <p:pic>
                <p:nvPicPr>
                  <p:cNvPr id="73" name="Object 5" descr=""/>
                  <p:cNvPicPr/>
                  <p:nvPr/>
                </p:nvPicPr>
                <p:blipFill>
                  <a:blip r:embed="rId2"/>
                  <a:stretch/>
                </p:blipFill>
                <p:spPr>
                  <a:xfrm>
                    <a:off x="4648320" y="1523880"/>
                    <a:ext cx="3809880" cy="4108680"/>
                  </a:xfrm>
                  <a:prstGeom prst="rect">
                    <a:avLst/>
                  </a:prstGeom>
                  <a:ln w="0">
                    <a:noFill/>
                  </a:ln>
                </p:spPr>
              </p:pic>
            </p:oleObj>
          </a:graphicData>
        </a:graphic>
      </p:graphicFrame>
      <p:sp>
        <p:nvSpPr>
          <p:cNvPr id="74" name="Text Box 7"/>
          <p:cNvSpPr/>
          <p:nvPr/>
        </p:nvSpPr>
        <p:spPr>
          <a:xfrm>
            <a:off x="304920" y="4800600"/>
            <a:ext cx="88390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li: Human and animal fecal was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uoride: Erosion of natural deposits; discharge from fertilizer and aluminum fact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per: Erosion of natural deposits; corrosion of household plumbing systems; leaching from wood preservativ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 Erosion of natural deposits; corrosion of household plumbing syst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76" name="PlaceHolder 2"/>
          <p:cNvSpPr>
            <a:spLocks noGrp="1"/>
          </p:cNvSpPr>
          <p:nvPr>
            <p:ph/>
          </p:nvPr>
        </p:nvSpPr>
        <p:spPr>
          <a:xfrm>
            <a:off x="1219320" y="1981080"/>
            <a:ext cx="7238880" cy="4572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American uses about 50 gallons (190 liters) of water daily.</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ing a toilet uses 2 to 7 gallons (7.5 to 26.5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ve-minute shower uses 25 to 50 gallons (95 to 190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ing the water on while brushing your teeth wastes 2 gallons (7.5 liters) of water each tim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400 million people live in regions with severe water shortag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the original health drink.  It contains no fat, no calories and no cholesterol.</a:t>
            </a:r>
            <a:endParaRPr b="0" lang="en-US" sz="2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Giver and Life Take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Rectangle 4"/>
          <p:cNvSpPr/>
          <p:nvPr/>
        </p:nvSpPr>
        <p:spPr>
          <a:xfrm>
            <a:off x="609480" y="205740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of its existence...it is a life giver and also a life taker. It is for this reason that humans have been working on methods of obtaining pure water since the beginning of human existence. Archeological evidence shows that people have been attempting to purify water and give it a pleasurable taste since prehistoric ti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Huma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Rectangle 4"/>
          <p:cNvSpPr/>
          <p:nvPr/>
        </p:nvSpPr>
        <p:spPr>
          <a:xfrm>
            <a:off x="762120" y="2133720"/>
            <a:ext cx="72388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humans believed that the purity of water was determined by taste; if the water had a pleasing taste, then it was pure. As a result, the method of purifying water in ancient times was to add herbs or flowers to the water, but this was obviously not a true method of purification, nor was it enough to stop the search for 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 B.C.</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Rectangle 5"/>
          <p:cNvSpPr/>
          <p:nvPr/>
        </p:nvSpPr>
        <p:spPr>
          <a:xfrm>
            <a:off x="1066680" y="228600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0 B.C., Sanskrit ,documents about medical concerns, were created called the </a:t>
            </a:r>
            <a:r>
              <a:rPr b="0" i="1" lang="en-US" sz="2400" spc="-1" strike="noStrike">
                <a:solidFill>
                  <a:srgbClr val="000000"/>
                </a:solidFill>
                <a:latin typeface="Verdana"/>
              </a:rPr>
              <a:t>Sus’ruta Samhita</a:t>
            </a:r>
            <a:r>
              <a:rPr b="0" lang="en-US" sz="2400" spc="-1" strike="noStrike">
                <a:solidFill>
                  <a:srgbClr val="000000"/>
                </a:solidFill>
                <a:latin typeface="Verdana"/>
              </a:rPr>
              <a:t>. The Sus’ruta Samhita declares that “impure water should be purified by being boiled over a fire, or being heated in the sun or by dipping a heated iron into it, or it may be purified by filtration through sand and coarse gravel and then allowed to c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55" name="Rectangle 4"/>
          <p:cNvSpPr/>
          <p:nvPr/>
        </p:nvSpPr>
        <p:spPr>
          <a:xfrm>
            <a:off x="609480" y="24382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criptions have been discovered on the walls of the tomb of Amenophis II in Thebes. The inscription depicts the Egyptian method of purifying water in which they siphoned the water through a series of wick siphons. The inscription has been dated 1450 B.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400" spc="-1" strike="noStrike">
                <a:solidFill>
                  <a:srgbClr val="000000"/>
                </a:solidFill>
                <a:latin typeface="Verdana"/>
              </a:rPr>
              <a:t>Excerpt from www.tdsmeter.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cal Tim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Verdana"/>
              </a:rPr>
              <a:t>The Bible even has evidence of possible methods of water purification. In Exodus 15:22-27, Moses and the Israelites came upon Marah and found that the waters there were bitter. Moses was guided towards a tree and told to place the tree into the waters of Marah. Moses did as he was instructed and the waters of Marah were sweetened thereafter. While it is unclear what type of tree this was, or if any type of filtration process was used, the evidence points to at least a concern about water quality.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www.tdsmeter.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Hippocrates’ Sleev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Verdana"/>
              </a:rPr>
              <a:t>Another early method of filtering water was developed by the famous Greek physician (Physics), Hippocrates, in the 3rd century B.C. Recognizing that boiling water did not remove suspended solids, Hippocrates used a cloth bag to strain the water after boiling it. This method was later called “Hippocrates’ Sleev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 Filterat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 the late 1600s, Lucas Antonius Portius, an Italian physician, wrote about the multiple sand filtration method. The method had 3 pairs of sand filters consisting of downward and upward flow.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Verdana"/>
              </a:rPr>
              <a:t>Following these discoveries, sand filters and rainwater cisterns were developed. La Hire, a French scientist, proposed in 1703 that all households should have a rainwater cistern along with a sand filter. 100 years later, the first municipal water treatment plant was installed in Paisley, Scotland. </a:t>
            </a:r>
            <a:endParaRPr b="0" lang="en-US" sz="2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and 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In the 20th and 21st centuries, water quality has become even more important and numerous methods of water purification and filtration have been develop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22:20:18Z</dcterms:created>
  <dc:creator>.</dc:creator>
  <dc:description/>
  <dc:language>en-US</dc:language>
  <cp:lastModifiedBy>howard</cp:lastModifiedBy>
  <dcterms:modified xsi:type="dcterms:W3CDTF">2010-10-13T13:47:20Z</dcterms:modified>
  <cp:revision>6</cp:revision>
  <dc:subject/>
  <dc:title>Water Quality</dc:title>
</cp:coreProperties>
</file>