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arrow.wav" ContentType="audio/x-wav"/>
  <Override PartName="/ppt/media/drumroll.wav" ContentType="audio/x-wav"/>
  <Override PartName="/ppt/media/carbrake.wav" ContentType="audio/x-wav"/>
  <Override PartName="/ppt/media/image3.png" ContentType="image/png"/>
  <Override PartName="/ppt/media/chimes.wav" ContentType="audio/x-wav"/>
  <Override PartName="/ppt/media/image4.png" ContentType="image/png"/>
  <Override PartName="/ppt/media/cashreg.wav" ContentType="audio/x-wav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DB01-1448-4D41-99C7-C18E3DCA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EF9D-BBDA-4FEE-B6E7-9412173F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7B42-EA3A-443E-889B-37E3AF5A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28AF-41CD-4DFC-9EC8-DAFE3D8A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634B-F9FB-4546-8209-F4BB8105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0D49-1CC4-4471-8D37-2925BD08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9E55-32CB-4C11-9464-30DDC460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E275-6D1B-4861-8563-47577591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8A3D-1D3E-45B6-8E98-C61B55FA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B5DB-79C0-4C33-B2E1-78EF8B40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8F70-A4FD-4719-A09F-4EE5D9DA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B8AC-1CE3-487C-9349-1AFB7637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822C-3C1D-48E8-8D97-BA468CAF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C6B8-6BE1-479C-89C2-5F4A0F44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0C52-263B-4926-B9D2-93EBDEBC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0E1F-5ED8-47E6-B4F6-59714D5D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4D46-E5FD-4D43-96A2-2EF29C83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2D4D-EF60-4F6A-9B26-D8197C34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E8D1-4142-4410-A0C5-A6261D37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3C32-6421-4F34-AF98-9AA86DAC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4BAE-8212-4601-94A9-4E4BAA73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EA48-8770-41D8-9DE4-14F9DFEB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D766-C446-4E82-AC4A-0A24ED9B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C00D-AD3B-47FA-8FAA-EC54E846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55F6-A1E4-4A4D-A13F-D2517CEC9E56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3BA4-53D4-4EB1-BDC8-638FB221B0E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rrow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295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By Brian Dunom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dissolve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Visualize the critical characteristic of the water molecule that allows it to be such a good solvent, namely its polar nature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Rate of Dissolving, Structure of Water Dissoci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Rectangle 5"/>
          <p:cNvSpPr/>
          <p:nvPr/>
        </p:nvSpPr>
        <p:spPr>
          <a:xfrm rot="214800">
            <a:off x="2462040" y="14811120"/>
            <a:ext cx="2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1026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345520" cy="1255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This project is designed to supplement Unit 1 Section C of the (Chemistry in the Community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Physical Sci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Oceanograph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Environmental Sci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push dir="u"/>
    <p:sndAc>
      <p:stSnd>
        <p:snd r:embed="rId2" name="drumroll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242560" cy="1706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Simulab #1:Rate of Dissolv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Excel or other graphing progra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Simulab #2: Structure of Wa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Hydrogen Bonding Effec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Hexagonal arrangement of molecules in 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Simulab #3: Dissociation o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comb dir="vert"/>
    <p:sndAc>
      <p:stSnd>
        <p:snd r:embed="rId2" name="cashreg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Book Antiqua"/>
              </a:rPr>
              <a:t>I hope you liked my project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2:25:29Z</dcterms:created>
  <dc:creator>rentex </dc:creator>
  <dc:description/>
  <dc:language>en-US</dc:language>
  <cp:lastModifiedBy>howard</cp:lastModifiedBy>
  <dcterms:modified xsi:type="dcterms:W3CDTF">2010-09-29T21:53:46Z</dcterms:modified>
  <cp:revision>14</cp:revision>
  <dc:subject/>
  <dc:title>Water:  The Universal Solvent</dc:title>
</cp:coreProperties>
</file>