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arrow.wav" ContentType="audio/x-wav"/>
  <Override PartName="/ppt/media/drumroll.wav" ContentType="audio/x-wav"/>
  <Override PartName="/ppt/media/carbrake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cashreg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569-E3B4-4816-8B6C-8E559D82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029-E3C7-40C1-8752-58A6407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ED0-5719-4309-9FE2-077C8AB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AE4-D850-439D-9ED7-43EF59F7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B07B-5826-46A5-B8D5-0847D858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9F68-9217-4A99-8913-6C9C193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FB48-173A-445D-8594-03EACDF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8C5E-E44D-46B1-9DFD-13D89824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3BF3-B7B7-4222-86BD-D0D419DF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4060-7A11-432D-AC66-DEEA5E22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4869-7FA8-4CA6-A7CA-E5A5B48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075-8F96-4A51-92BD-4E42C4E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F2CA-4603-47BC-BEB1-1B72276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0D7-830F-42F3-8336-41DAE4C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4B14-4E37-47B3-B8D9-1BD270E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A54-4A47-4B62-A3DA-537FAA2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396C-88A0-4A99-A2FD-996094EA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BCB-5A6A-435F-9CBE-20F1B7DA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DAF-16F6-47B0-83BA-27E6FFF1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BA4-DD35-4393-B42B-BB422DF2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1FD-848E-4FFF-AA46-A56377EA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E77-19FF-4518-B16A-A1D3AF2E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CB3-7702-46EC-B69B-9AC1AAA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724-CDB1-4AF9-89A0-9E33302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F117-E16B-40BD-9CE3-F69C927E8B3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3EE6-CAB9-4453-A8AA-04BC1282C1B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y Brian Duno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Visualize the critical characteristic of the water molecule that allows it to be such a good solvent, namely its polar nature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Rate of Dissolving, Structure of Water Di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5"/>
          <p:cNvSpPr/>
          <p:nvPr/>
        </p:nvSpPr>
        <p:spPr>
          <a:xfrm rot="214800">
            <a:off x="2462040" y="14811120"/>
            <a:ext cx="2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6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4552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is project is designed to supplement Unit 1 Section C of the (Chemistry in the Communit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hysic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Ocean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Environment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sh dir="u"/>
    <p:sndAc>
      <p:stSnd>
        <p:snd r:embed="rId2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1:Rate of Dis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xcel or other graph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2: Structure of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ydrogen Bonding Eff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exagonal arrangement of molecules in 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3: Dissociation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ook Antiqua"/>
              </a:rPr>
              <a:t>I hope you liked my project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2:25:29Z</dcterms:created>
  <dc:creator>rentex </dc:creator>
  <dc:description/>
  <dc:language>en-US</dc:language>
  <cp:lastModifiedBy>howard</cp:lastModifiedBy>
  <dcterms:modified xsi:type="dcterms:W3CDTF">2010-09-29T21:53:46Z</dcterms:modified>
  <cp:revision>14</cp:revision>
  <dc:subject/>
  <dc:title>Water:  The Universal Solvent</dc:title>
</cp:coreProperties>
</file>