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A41E-6720-4A7C-8F48-55F473F5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6B60-1D6E-43DE-BA04-D29654CD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D9A8-3C9C-487A-8E87-D8E8C84C5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717A-6A7E-426B-BE16-A3C42162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AFC7C-4ABC-4122-98BD-2DDC84B4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DEFC1-8660-429C-A002-E5889C20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66A82-27DC-40B0-82EC-C48B9E78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66E59-9026-4A5A-82AD-64456C80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A0000-8D4F-417A-9717-BD9830BE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5EC90-A1C6-4D9D-BE40-68945CCD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C90AA-81B7-4BA0-A218-F2156283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B9D5-EEE4-4429-8695-B1C7FE1B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16277-D10F-4084-8A2B-DBA47834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D8A33-249E-4430-8023-2585C5D4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70484-0ECB-40D2-AE7B-5233583A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8C794-63D1-4C7F-B2DD-4A3B1E0F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A9FBB-BDC9-4C51-BCFF-4465D3D5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7513-96FA-42F6-8592-9EF16992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4B9C-1A2F-4CC2-9968-928C32A3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91E1-11F0-41BD-8095-F4641814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E102-54F8-45C3-8719-8A151CDC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DBE9-7547-41BB-88A0-F7031359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D5F2-5A4D-4965-BF3A-96D3AA13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8534-7921-4F9C-AD4E-4BEB5DE5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61B5-FA9C-4E48-B50E-6569186E4B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DD5A-EC74-41FE-8E7C-012CE0F557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63416"/>
                </a:solidFill>
                <a:latin typeface="Arial"/>
              </a:rPr>
              <a:t>ater   ollution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By: Yours Truly, Breonn Nich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15000" y="4038480"/>
            <a:ext cx="3200400" cy="2090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2590920" cy="1944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1447920" y="1981080"/>
            <a:ext cx="53316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9880" y="1905120"/>
            <a:ext cx="533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057400" y="3048120"/>
            <a:ext cx="144792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3086280" y="3251160"/>
            <a:ext cx="129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99ff"/>
                </a:solidFill>
                <a:latin typeface="Arial"/>
              </a:rPr>
              <a:t>H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0" y="3048120"/>
            <a:ext cx="685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5259600" y="32004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n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72200" y="20574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What Is Water Pollution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Water pollution is a change in water, contaminated by harmful substanc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1752120"/>
            <a:ext cx="4038480" cy="4496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39621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When Does It Occu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2171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Water pollution occurs when a body of water is affected due to the addition of large amounts of material into the wat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8153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Thermal Water Pollu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Thermal pollution occurs when water is used as a coolant near a industrial plant, and then is returned to the aquatic environment at a higher temperature than bef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40388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Average Dump In Wat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As you can see, this is a graph of what is usually dumped into bodies of wa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438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I Predict That…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My prediction is that the only way we could stop water pollution is by going out and picking up trash, and encouraging others to do the s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419076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648320" y="1523880"/>
            <a:ext cx="396216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63416"/>
                </a:solidFill>
                <a:latin typeface="Arial"/>
              </a:rPr>
              <a:t>ater   ollution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By: Yours Truly, Breonn Nich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715000" y="4038480"/>
            <a:ext cx="3200400" cy="2090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2590920" cy="1944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447920" y="1981080"/>
            <a:ext cx="53316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9880" y="1905120"/>
            <a:ext cx="533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99ff"/>
                </a:solidFill>
                <a:latin typeface="Arial"/>
              </a:rPr>
              <a:t>Scientis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One of the scientist who studies water pollution is Brunel University. Brunel is a hydrologist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28616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Where’s The Math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There is about 29% of water pollution in Louisiana, 18% in Indiana, 15% in Illinois, and 19% in Ohi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00:04:27Z</dcterms:created>
  <dc:creator>Katina Knighten</dc:creator>
  <dc:description/>
  <dc:language>en-US</dc:language>
  <cp:lastModifiedBy>Katina Knighten</cp:lastModifiedBy>
  <dcterms:modified xsi:type="dcterms:W3CDTF">2010-10-14T02:29:22Z</dcterms:modified>
  <cp:revision>1</cp:revision>
  <dc:subject/>
  <dc:title>ater   ollution</dc:title>
</cp:coreProperties>
</file>