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C3EB-A7CD-4141-872A-64A9D17B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CA5E-9D1E-4DDB-9E86-3C852DE8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BB3F-B0F8-43D9-8B4F-23F41394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D6B5-8D86-4A71-89B2-40F92965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52C54-51B2-4B4A-BAE9-97236DB1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C8196-32A3-424E-A7AE-6875A28C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8712E-636D-4E24-89E1-D73E3F36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0078F-317F-4953-AB74-4F981CA8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28DE0-40F7-4E7F-BA9F-3BB20454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8A2E2-E4EF-49AE-BF48-68857D1B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0FBFC-F4AB-4687-B46E-EA4D6666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DD93-ED2F-4132-B69B-61FCC4A3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E1C24-34C7-46AD-B632-069BBA4C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9F0A4-8860-4B09-8F0E-646C7887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F650B-6D1B-46AD-8F67-AD042123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4C43A-9058-4395-AA20-05E4EFD2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1337D-9DAE-4F89-8810-0FF97AA8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951-8F16-4D97-942F-C93BEA87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54C3-4F7F-49EE-92DA-2CD780C1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7A0-E9C7-4362-84A8-FDE5A62F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FE0D-CF43-4F24-B8A7-F7C78758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9AD1-53F7-4B7B-8328-A593256A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2895-CDE9-4D43-8FEF-FAD6AB55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8D5D-3020-4D46-A115-766203B5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F891-472C-4F95-B143-C435F24DE7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32E8-FB2A-4E6C-9228-6153F5058F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63416"/>
                </a:solidFill>
                <a:latin typeface="Arial"/>
              </a:rPr>
              <a:t>ater   ollutio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By: Yours Truly, Breonn Nich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15000" y="4038480"/>
            <a:ext cx="3200400" cy="2090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2590920" cy="1944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1447920" y="1981080"/>
            <a:ext cx="53316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9880" y="1905120"/>
            <a:ext cx="533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057400" y="3048120"/>
            <a:ext cx="144792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3086280" y="3251160"/>
            <a:ext cx="129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ff"/>
                </a:solidFill>
                <a:latin typeface="Arial"/>
              </a:rPr>
              <a:t>H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0" y="3048120"/>
            <a:ext cx="685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5259600" y="32004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n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72200" y="20574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What Is Water Pollution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Water pollution is a change in water, contaminated by harmful substanc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1752120"/>
            <a:ext cx="4038480" cy="4496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39621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When Does It Occu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2171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Water pollution occurs when a body of water is affected due to the addition of large amounts of material into the wat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8153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Thermal Water Pollu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Thermal pollution occurs when water is used as a coolant near a industrial plant, and then is returned to the aquatic environment at a higher temperature than bef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40388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Average Dump In Wat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As you can see, this is a graph of what is usually dumped into bodies of wa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438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I Predict That…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My prediction is that the only way we could stop water pollution is by going out and picking up trash, and encouraging others to do the s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419076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648320" y="1523880"/>
            <a:ext cx="396216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63416"/>
                </a:solidFill>
                <a:latin typeface="Arial"/>
              </a:rPr>
              <a:t>ater   ollutio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By: Yours Truly, Breonn Nich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715000" y="4038480"/>
            <a:ext cx="3200400" cy="2090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2590920" cy="1944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447920" y="1981080"/>
            <a:ext cx="53316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9880" y="1905120"/>
            <a:ext cx="533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99ff"/>
                </a:solidFill>
                <a:latin typeface="Arial"/>
              </a:rPr>
              <a:t>Scientis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One of the scientist who studies water pollution is Brunel University. Brunel is a hydrologist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28616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Where’s The Math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There is about 29% of water pollution in Louisiana, 18% in Indiana, 15% in Illinois, and 19% in Ohi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00:04:27Z</dcterms:created>
  <dc:creator>Katina Knighten</dc:creator>
  <dc:description/>
  <dc:language>en-US</dc:language>
  <cp:lastModifiedBy>Katina Knighten</cp:lastModifiedBy>
  <dcterms:modified xsi:type="dcterms:W3CDTF">2010-10-14T02:29:22Z</dcterms:modified>
  <cp:revision>1</cp:revision>
  <dc:subject/>
  <dc:title>ater   ollution</dc:title>
</cp:coreProperties>
</file>