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A4B-9B80-403E-90B4-2CBD2A0E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636-C339-436E-845E-A780BE08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77D-E80C-4A2A-89C7-767A9172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758-5316-4815-BA7B-E1D140BB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92A30-74BC-4731-9B85-A2977B15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F02AE-EEA1-4762-94DC-51F6B2F0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80760-57A3-4A07-82D6-D7FD0FA3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91B9D-ED61-4D2D-AF4C-6B19B01A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65ECD-E9A8-4A75-941D-AF5FDD3C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2AB12-3D29-41F5-83AF-C089B0B1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E608A-F428-457F-8870-81599C4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FFF-C9D7-4BEE-AF8E-85987B5B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84E18-0E6F-4B9A-9C97-504280A4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32A62-A090-446A-B4C3-E7F5556A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7D5A8-373A-4E9A-9FBE-A05E9252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85A9F-8CD9-4D92-927E-1C9D46DC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E3D3E-3A0E-4D91-9EF9-3E089A74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6CB-C551-4B51-B2FA-3C8B0B6D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891-8837-4C43-B6F9-9E665400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6E1-69A7-434D-8299-61BE9E39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159-0D24-4F7C-B76A-BD4C367A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9F2-002C-4A08-98AF-3D4B456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051-693C-4029-BF7A-DE19E972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EA1-27EC-4D4F-94CC-0F25CD96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386D-25D1-4604-A9B9-82E899B826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F300-3DDA-45EB-8F80-6C0465FF1D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3048120"/>
            <a:ext cx="14479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86280" y="325116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048120"/>
            <a:ext cx="685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259600" y="32004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Water pollution is a change in water, contaminated by harmful substan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75212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hen Does It Occ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71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Water pollution occurs when a body of water is affected due to the addition of large amounts of material into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hermal 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rmal pollution occurs when water is used as a coolant near a industrial plant, and then is returned to the aquatic environment at a higher temperature tha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03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verage Dump In 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As you can see, this is a graph of what is usually dumped into bodi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3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I Predict That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y prediction is that the only way we could stop water pollution is by going out and picking up trash, and encouraging others to do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3962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Scienti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ne of the scientist who studies water pollution is Brunel University. Brunel is a hydrologi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861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ere’s The Math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ere is about 29% of water pollution in Louisiana, 18% in Indiana, 15% in Illinois, and 19% in Ohi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0:04:27Z</dcterms:created>
  <dc:creator>Katina Knighten</dc:creator>
  <dc:description/>
  <dc:language>en-US</dc:language>
  <cp:lastModifiedBy>Katina Knighten</cp:lastModifiedBy>
  <dcterms:modified xsi:type="dcterms:W3CDTF">2010-10-14T02:29:22Z</dcterms:modified>
  <cp:revision>1</cp:revision>
  <dc:subject/>
  <dc:title>ater   ollution</dc:title>
</cp:coreProperties>
</file>