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CC75-0DF8-47FA-A20C-5CF7501F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D91E-0048-4DAA-AAFA-C68259CB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2C74-E4FA-42A5-BDE2-4A6533CF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D15E-CAE1-49B9-B57E-FC90C820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2CE62-B371-4085-86CC-B4269727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F6E78-76DD-4BCC-A414-29181E8E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50780-F1AE-41DF-92EF-D36A1D43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39165-8E91-4390-9642-66494E72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C054B-B849-428B-AAAD-3D0953FD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128A9-6BD8-430D-B342-77DC8746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B396D-D2F5-4AAB-BD32-C45C8E82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57F4-C35B-47F2-AC19-70722E2E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AD9A2-929C-47CE-A0FC-9C58FFA7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358C2-D7AC-4AB4-BC3A-EEEBEDBB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939E8-EA4F-4BF2-9A94-7A1B9EB5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B9109-F3AA-483A-BBAE-AD9B6B8E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10B6A-3DDA-44D2-8F55-F2F3F95B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08D2-1036-46F6-986F-83882595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EF4E-CD4E-4537-AF24-683E5B6B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DFEA-DA42-4F9A-8E84-6279299E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7474-67BF-4B95-9966-CF6D3A94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BEF3-CDFC-4B44-9208-14E16717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612C-1815-4B3D-A64C-E8448A81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6D5C-8886-4630-86D8-5F177DB2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3679-044E-4E36-B5FF-963C148BFF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680F-1F99-456C-B7DA-FC24218E01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63416"/>
                </a:solidFill>
                <a:latin typeface="Arial"/>
              </a:rPr>
              <a:t>ater   ollution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By: Yours Truly, Breonn Nicho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15000" y="4038480"/>
            <a:ext cx="3200400" cy="2090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2590920" cy="1944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1447920" y="1981080"/>
            <a:ext cx="53316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09880" y="1905120"/>
            <a:ext cx="5335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057400" y="3048120"/>
            <a:ext cx="144792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3086280" y="3251160"/>
            <a:ext cx="129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99ff"/>
                </a:solidFill>
                <a:latin typeface="Arial"/>
              </a:rPr>
              <a:t>H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0" y="3048120"/>
            <a:ext cx="685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5259600" y="32004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Arial"/>
              </a:rPr>
              <a:t>n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172200" y="20574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What Is Water Pollution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Water pollution is a change in water, contaminated by harmful substanc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48320" y="1752120"/>
            <a:ext cx="4038480" cy="4496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39621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When Does It Occu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2171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Water pollution occurs when a body of water is affected due to the addition of large amounts of material into the wat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8153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Thermal Water Pollu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Thermal pollution occurs when water is used as a coolant near a industrial plant, and then is returned to the aquatic environment at a higher temperature than bef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952880" y="3048120"/>
            <a:ext cx="40388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Average Dump In Wat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As you can see, this is a graph of what is usually dumped into bodies of wat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438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I Predict That…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71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718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My prediction is that the only way we could stop water pollution is by going out and picking up trash, and encouraging others to do the sa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04920" y="1523880"/>
            <a:ext cx="4190760" cy="2286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648320" y="1523880"/>
            <a:ext cx="396216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63416"/>
                </a:solidFill>
                <a:latin typeface="Arial"/>
              </a:rPr>
              <a:t>ater   ollution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By: Yours Truly, Breonn Nicho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715000" y="4038480"/>
            <a:ext cx="3200400" cy="2090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2590920" cy="1944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1447920" y="1981080"/>
            <a:ext cx="53316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9880" y="1905120"/>
            <a:ext cx="5335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99ff"/>
                </a:solidFill>
                <a:latin typeface="Arial"/>
              </a:rPr>
              <a:t>Scientis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One of the scientist who studies water pollution is Brunel University. Brunel is a hydrologist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28616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Where’s The Math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There is about 29% of water pollution in Louisiana, 18% in Indiana, 15% in Illinois, and 19% in Ohio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00:04:27Z</dcterms:created>
  <dc:creator>Katina Knighten</dc:creator>
  <dc:description/>
  <dc:language>en-US</dc:language>
  <cp:lastModifiedBy>Katina Knighten</cp:lastModifiedBy>
  <dcterms:modified xsi:type="dcterms:W3CDTF">2010-10-14T02:29:22Z</dcterms:modified>
  <cp:revision>1</cp:revision>
  <dc:subject/>
  <dc:title>ater   ollution</dc:title>
</cp:coreProperties>
</file>